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5CE-8D10-42EB-9DA5-26CBCDE9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511-6D50-4974-90E8-75FF9AD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EF2-48FB-4B0E-9AF0-7719F656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7C2-B211-4121-BE31-8BFDF8F4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0FF-F76F-4A50-BA2D-B2D879A0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B92-2DA7-4C88-BA08-E040F32A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F78-5D13-477B-8F5E-4FFBFEBC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072-E5A0-4E38-84EE-E61AC098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D42-8CB6-4A17-BD92-E780C7E6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5BB-8512-4C31-9F82-E824D85A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0A3-4CF1-45C4-B502-4500B80A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B8A-30F0-45D5-9AF6-96B74B3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EDD4-FF81-435F-8E5B-C07F45D88C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523880"/>
            <a:ext cx="79246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197000"/>
            <a:ext cx="8458200" cy="50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nswer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a) Choos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one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skill or technique from an activity of your choice.  Describe a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odel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of this skill or technique.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b) Compar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your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of this skill or technique with the 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odel performance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described in Part (a).  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Please complete in your jotters for Wednesday 9</a:t>
            </a:r>
            <a:r>
              <a:rPr b="0" i="1" lang="en-US" sz="2800" spc="-1" strike="noStrike" baseline="30000">
                <a:solidFill>
                  <a:srgbClr val="ffff00"/>
                </a:solidFill>
                <a:latin typeface="Comic Sans MS"/>
              </a:rPr>
              <a:t>th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0:16:19Z</dcterms:created>
  <dc:creator>CarmichaelMA</dc:creator>
  <dc:description/>
  <dc:language>en-US</dc:language>
  <cp:lastModifiedBy>CARMICHAELMA</cp:lastModifiedBy>
  <dcterms:modified xsi:type="dcterms:W3CDTF">2009-12-02T09:51:59Z</dcterms:modified>
  <cp:revision>30</cp:revision>
  <dc:subject/>
  <dc:title>Intermediate PE</dc:title>
</cp:coreProperties>
</file>